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4894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83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38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38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238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238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B2AC5-D648-426C-A4DB-30CA6EF256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CDD51-3E93-44B0-A82F-91D62DAEF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AD021-4BC9-433A-AB1B-EACF099B82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B998-EBBA-4E99-8E68-CE35C727D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975AF-4311-4FF3-9BDC-6DC10132E2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E2BEE-858F-4617-B964-A23DA28313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9A023-7A7C-4AA1-A793-376DCFC64F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23ECA-F9D9-4FDD-B8F2-91E3E1951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B825-FC93-492F-899B-4EED7221CF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F7E9B-8632-4C49-BD8A-A0C9F9CA74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371600" y="763560"/>
            <a:ext cx="48974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BB0D-14D1-4508-A960-A63F39AAA8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AB2C-2FD7-42E9-A26C-1831000E2B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876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856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984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724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984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724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9320"/>
            <a:ext cx="47480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856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340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53352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2225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“Extreme” power savings mode + additional power savings in sleep for non-mesh. (40+ hours of life in slee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eployment Planning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schoo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 off power gr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hours of usage dail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natural resources are avail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mary modes of laptop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draw of 21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 to 26 W w. power fact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 Watt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of 4 – 7 Watts while running w. peaks up to 9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25280"/>
            <a:ext cx="4952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Time to Charge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st with the Laptop of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top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power used to charg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Individual solar pane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maximum output (full sun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lap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W charges laptop in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W charges laptop in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W charges laptop in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Watt solar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for smalles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ized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solar panel arrays and charge ct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ttery storag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ters to minimize distribu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51768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viable with existing XO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Ah Lead Acid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rge 2 laptop batteries in 2 h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, Wind, Pedal,Trea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ion to 2 x 60W solar blanket(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in Q1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12-16T21:27:56Z</dcterms:modified>
  <cp:revision>1</cp:revision>
  <dc:subject/>
  <dc:title>One Laptop per Child</dc:title>
</cp:coreProperties>
</file>